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241-2300-4353-9FAF-AB7AD6B9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787-B956-430E-829B-9BF482DB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006-AAF0-4306-83E0-DB510D24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BAD-B808-4FC7-A83F-59D2C0C5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31AF-E49A-42D7-98CD-8C956660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2299-9998-480F-BAFB-CFE8DB07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6AF0-CB6A-4112-B482-6299F87A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CC72-5FF0-4EF2-91B7-ADC6F608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DC11-41E8-4454-9E92-837059F6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49BB-77BD-4FCA-9E2C-135AE10E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9276-AB24-4FF7-BF59-E216BC8B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F79-80C4-4560-A6B1-E1C8A700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56E5-822C-46FA-B71D-BCBD7933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11BE-E71D-4DAA-A991-0960808A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B2E5-AE19-4874-8A1A-7D693E10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1B20-4B63-4146-97FA-FB6854CF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03A8-D0DF-464D-AE28-9B1E4DA1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54A-EAB9-4D20-A7CC-28B972B3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42F-177B-4AEB-AA27-CDD5B9FE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43F9-A896-48FE-97B4-A7C24439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A75-D200-4D5C-8183-E040DF4E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3A3-EFA6-49D0-A4E6-A30DCE1E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F39-FD56-4367-9292-57AA682D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138-9E09-4B03-BC85-3670F873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E366-943C-407C-B33C-FBE192BBF2D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4552-5043-4C92-ADC9-03106B44267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Day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reshm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riting assign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et an AR book/read when done with wr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orkshe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ok at the following image and create a story to go with it. Follow Poe’s example and use Gothic element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5:12:07Z</dcterms:created>
  <dc:creator>VMS</dc:creator>
  <dc:description/>
  <dc:language>en-US</dc:language>
  <cp:lastModifiedBy>VMS</cp:lastModifiedBy>
  <dcterms:modified xsi:type="dcterms:W3CDTF">2009-08-27T15:29:33Z</dcterms:modified>
  <cp:revision>2</cp:revision>
  <dc:subject/>
  <dc:title>English Day 8</dc:title>
</cp:coreProperties>
</file>